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乘法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 Box 5"/>
          <p:cNvSpPr/>
          <p:nvPr/>
        </p:nvSpPr>
        <p:spPr>
          <a:xfrm>
            <a:off x="1690560" y="200664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分数乘小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2"/>
          <a:stretch/>
        </p:blipFill>
        <p:spPr>
          <a:xfrm>
            <a:off x="755640" y="9619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7072560" y="3429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导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1260360" y="1484280"/>
            <a:ext cx="32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直接说出得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403280" y="479736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直接说出得数，并说说你是怎样想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01840" y="2209680"/>
            <a:ext cx="1147680" cy="778680"/>
            <a:chOff x="1401840" y="2209680"/>
            <a:chExt cx="1147680" cy="778680"/>
          </a:xfrm>
        </p:grpSpPr>
        <p:sp>
          <p:nvSpPr>
            <p:cNvPr id="46" name="Text Box 8"/>
            <p:cNvSpPr/>
            <p:nvPr/>
          </p:nvSpPr>
          <p:spPr>
            <a:xfrm>
              <a:off x="1401840" y="2441520"/>
              <a:ext cx="82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2035080" y="2209680"/>
              <a:ext cx="514440" cy="778680"/>
              <a:chOff x="2035080" y="2209680"/>
              <a:chExt cx="514440" cy="778680"/>
            </a:xfrm>
          </p:grpSpPr>
          <p:sp>
            <p:nvSpPr>
              <p:cNvPr id="48" name=""/>
              <p:cNvSpPr/>
              <p:nvPr/>
            </p:nvSpPr>
            <p:spPr>
              <a:xfrm>
                <a:off x="2044440" y="256536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057400" y="22096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035080" y="26287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"/>
          <p:cNvGrpSpPr/>
          <p:nvPr/>
        </p:nvGrpSpPr>
        <p:grpSpPr>
          <a:xfrm>
            <a:off x="3886200" y="2178000"/>
            <a:ext cx="1454040" cy="778680"/>
            <a:chOff x="3886200" y="2178000"/>
            <a:chExt cx="1454040" cy="778680"/>
          </a:xfrm>
        </p:grpSpPr>
        <p:sp>
          <p:nvSpPr>
            <p:cNvPr id="52" name=""/>
            <p:cNvSpPr/>
            <p:nvPr/>
          </p:nvSpPr>
          <p:spPr>
            <a:xfrm>
              <a:off x="4246560" y="239544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886200" y="2178000"/>
              <a:ext cx="504720" cy="778680"/>
              <a:chOff x="3886200" y="2178000"/>
              <a:chExt cx="504720" cy="778680"/>
            </a:xfrm>
          </p:grpSpPr>
          <p:sp>
            <p:nvSpPr>
              <p:cNvPr id="54" name=""/>
              <p:cNvSpPr/>
              <p:nvPr/>
            </p:nvSpPr>
            <p:spPr>
              <a:xfrm>
                <a:off x="3886200" y="25336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957480" y="2178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935520" y="2597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6048360" y="2205000"/>
            <a:ext cx="1454040" cy="778680"/>
            <a:chOff x="6048360" y="2205000"/>
            <a:chExt cx="1454040" cy="778680"/>
          </a:xfrm>
        </p:grpSpPr>
        <p:sp>
          <p:nvSpPr>
            <p:cNvPr id="58" name=""/>
            <p:cNvSpPr/>
            <p:nvPr/>
          </p:nvSpPr>
          <p:spPr>
            <a:xfrm>
              <a:off x="6408720" y="242244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6048360" y="2205000"/>
              <a:ext cx="504720" cy="778680"/>
              <a:chOff x="6048360" y="2205000"/>
              <a:chExt cx="504720" cy="778680"/>
            </a:xfrm>
          </p:grpSpPr>
          <p:sp>
            <p:nvSpPr>
              <p:cNvPr id="60" name=""/>
              <p:cNvSpPr/>
              <p:nvPr/>
            </p:nvSpPr>
            <p:spPr>
              <a:xfrm>
                <a:off x="6048360" y="25606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119640" y="2205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097680" y="2624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1585800" y="3530520"/>
            <a:ext cx="1397160" cy="778680"/>
            <a:chOff x="1585800" y="3530520"/>
            <a:chExt cx="1397160" cy="778680"/>
          </a:xfrm>
        </p:grpSpPr>
        <p:sp>
          <p:nvSpPr>
            <p:cNvPr id="64" name=""/>
            <p:cNvSpPr/>
            <p:nvPr/>
          </p:nvSpPr>
          <p:spPr>
            <a:xfrm>
              <a:off x="1888920" y="3747960"/>
              <a:ext cx="109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85800" y="38862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00200" y="353052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06320" y="39495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33720" y="3540240"/>
            <a:ext cx="1397160" cy="778320"/>
            <a:chOff x="3933720" y="3540240"/>
            <a:chExt cx="1397160" cy="778320"/>
          </a:xfrm>
        </p:grpSpPr>
        <p:sp>
          <p:nvSpPr>
            <p:cNvPr id="69" name=""/>
            <p:cNvSpPr/>
            <p:nvPr/>
          </p:nvSpPr>
          <p:spPr>
            <a:xfrm>
              <a:off x="4236840" y="3757320"/>
              <a:ext cx="109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33720" y="38955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48120" y="354024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54240" y="395892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173640" y="3573360"/>
            <a:ext cx="1397160" cy="778680"/>
            <a:chOff x="6173640" y="3573360"/>
            <a:chExt cx="1397160" cy="778680"/>
          </a:xfrm>
        </p:grpSpPr>
        <p:sp>
          <p:nvSpPr>
            <p:cNvPr id="74" name=""/>
            <p:cNvSpPr/>
            <p:nvPr/>
          </p:nvSpPr>
          <p:spPr>
            <a:xfrm>
              <a:off x="6476760" y="3790800"/>
              <a:ext cx="109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73640" y="392904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88040" y="35733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94160" y="399240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341440" y="2214720"/>
            <a:ext cx="1093680" cy="768960"/>
            <a:chOff x="2341440" y="2214720"/>
            <a:chExt cx="1093680" cy="768960"/>
          </a:xfrm>
        </p:grpSpPr>
        <p:sp>
          <p:nvSpPr>
            <p:cNvPr id="79" name=""/>
            <p:cNvSpPr/>
            <p:nvPr/>
          </p:nvSpPr>
          <p:spPr>
            <a:xfrm>
              <a:off x="2341440" y="2421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62280" y="25606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55800" y="221472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74880" y="263700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344680" y="37339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66000" y="37688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643280" y="2165400"/>
            <a:ext cx="1093680" cy="768960"/>
            <a:chOff x="4643280" y="2165400"/>
            <a:chExt cx="1093680" cy="768960"/>
          </a:xfrm>
        </p:grpSpPr>
        <p:sp>
          <p:nvSpPr>
            <p:cNvPr id="86" name=""/>
            <p:cNvSpPr/>
            <p:nvPr/>
          </p:nvSpPr>
          <p:spPr>
            <a:xfrm>
              <a:off x="4643280" y="2371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64120" y="25113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57640" y="216540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76720" y="258768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854760" y="2193840"/>
            <a:ext cx="1093680" cy="768960"/>
            <a:chOff x="6854760" y="2193840"/>
            <a:chExt cx="1093680" cy="768960"/>
          </a:xfrm>
        </p:grpSpPr>
        <p:sp>
          <p:nvSpPr>
            <p:cNvPr id="91" name=""/>
            <p:cNvSpPr/>
            <p:nvPr/>
          </p:nvSpPr>
          <p:spPr>
            <a:xfrm>
              <a:off x="6854760" y="2400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75600" y="25398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269120" y="219384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8200" y="261612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672080" y="3533760"/>
            <a:ext cx="1093680" cy="768960"/>
            <a:chOff x="4672080" y="3533760"/>
            <a:chExt cx="1093680" cy="768960"/>
          </a:xfrm>
        </p:grpSpPr>
        <p:sp>
          <p:nvSpPr>
            <p:cNvPr id="96" name=""/>
            <p:cNvSpPr/>
            <p:nvPr/>
          </p:nvSpPr>
          <p:spPr>
            <a:xfrm>
              <a:off x="4672080" y="3740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92920" y="38797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086440" y="353376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05520" y="395604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63840" y="611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79480" y="6327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1400" y="5226120"/>
            <a:ext cx="72673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一）出示信息，明确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116000" y="206064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出示信息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101600" y="253224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松鼠的尾巴长度约占身体的长度的     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066680" y="4292640"/>
            <a:ext cx="386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松鼠欢欢的尾巴有多长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松鼠乐乐的尾巴有多长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089680" y="2344680"/>
            <a:ext cx="521640" cy="778680"/>
            <a:chOff x="5089680" y="2344680"/>
            <a:chExt cx="521640" cy="778680"/>
          </a:xfrm>
        </p:grpSpPr>
        <p:sp>
          <p:nvSpPr>
            <p:cNvPr id="109" name=""/>
            <p:cNvSpPr/>
            <p:nvPr/>
          </p:nvSpPr>
          <p:spPr>
            <a:xfrm>
              <a:off x="5106960" y="2700360"/>
              <a:ext cx="504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11640" y="2344680"/>
              <a:ext cx="360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89680" y="276372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66760" y="2852640"/>
            <a:ext cx="3873600" cy="1519200"/>
            <a:chOff x="266760" y="2852640"/>
            <a:chExt cx="3873600" cy="1519200"/>
          </a:xfrm>
        </p:grpSpPr>
        <p:grpSp>
          <p:nvGrpSpPr>
            <p:cNvPr id="113" name=""/>
            <p:cNvGrpSpPr/>
            <p:nvPr/>
          </p:nvGrpSpPr>
          <p:grpSpPr>
            <a:xfrm>
              <a:off x="266760" y="2852640"/>
              <a:ext cx="2089080" cy="1519200"/>
              <a:chOff x="266760" y="2852640"/>
              <a:chExt cx="2089080" cy="1519200"/>
            </a:xfrm>
          </p:grpSpPr>
          <p:pic>
            <p:nvPicPr>
              <p:cNvPr id="1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6760" y="2852640"/>
                <a:ext cx="1241280" cy="144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1419120" y="400356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欢欢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AutoShape 27"/>
            <p:cNvSpPr/>
            <p:nvPr/>
          </p:nvSpPr>
          <p:spPr>
            <a:xfrm>
              <a:off x="1765440" y="3082680"/>
              <a:ext cx="2374920" cy="505080"/>
            </a:xfrm>
            <a:prstGeom prst="wedgeRoundRectCallout">
              <a:avLst>
                <a:gd name="adj1" fmla="val -55949"/>
                <a:gd name="adj2" fmla="val 41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身体长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484520" y="2852640"/>
            <a:ext cx="4056120" cy="1620720"/>
            <a:chOff x="4484520" y="2852640"/>
            <a:chExt cx="4056120" cy="1620720"/>
          </a:xfrm>
        </p:grpSpPr>
        <p:grpSp>
          <p:nvGrpSpPr>
            <p:cNvPr id="118" name=""/>
            <p:cNvGrpSpPr/>
            <p:nvPr/>
          </p:nvGrpSpPr>
          <p:grpSpPr>
            <a:xfrm>
              <a:off x="6588000" y="2852640"/>
              <a:ext cx="1952640" cy="1620720"/>
              <a:chOff x="6588000" y="2852640"/>
              <a:chExt cx="1952640" cy="1620720"/>
            </a:xfrm>
          </p:grpSpPr>
          <p:pic>
            <p:nvPicPr>
              <p:cNvPr id="1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57800" y="2852640"/>
                <a:ext cx="1482840" cy="144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6588000" y="410508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乐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AutoShape 27"/>
            <p:cNvSpPr/>
            <p:nvPr/>
          </p:nvSpPr>
          <p:spPr>
            <a:xfrm>
              <a:off x="4484520" y="3322440"/>
              <a:ext cx="2374920" cy="505080"/>
            </a:xfrm>
            <a:prstGeom prst="wedgeRoundRectCallout">
              <a:avLst>
                <a:gd name="adj1" fmla="val 55949"/>
                <a:gd name="adj2" fmla="val 4465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我身体长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828720" y="5805360"/>
            <a:ext cx="8567640" cy="916560"/>
            <a:chOff x="828720" y="5805360"/>
            <a:chExt cx="8567640" cy="916560"/>
          </a:xfrm>
        </p:grpSpPr>
        <p:sp>
          <p:nvSpPr>
            <p:cNvPr id="123" name="Rectangle 2"/>
            <p:cNvSpPr/>
            <p:nvPr/>
          </p:nvSpPr>
          <p:spPr>
            <a:xfrm>
              <a:off x="828720" y="5805360"/>
              <a:ext cx="856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52000"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要求“松鼠欢欢的尾巴有多长”怎样列式？你是怎样想的？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(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求“松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   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欢欢的尾巴有多长”列式：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2.1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楷体_GB2312"/>
                </a:rPr>
                <a:t>×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       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就是求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2.4</a:t>
              </a:r>
              <a:r>
                <a:rPr b="1" lang="zh-CN" sz="2000" spc="-1" strike="noStrike">
                  <a:solidFill>
                    <a:srgbClr val="1c1c1c"/>
                  </a:solidFill>
                  <a:latin typeface="Arial"/>
                  <a:ea typeface="宋体"/>
                </a:rPr>
                <a:t>的        是多少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4788000" y="5933880"/>
              <a:ext cx="545760" cy="778680"/>
              <a:chOff x="4788000" y="5933880"/>
              <a:chExt cx="545760" cy="778680"/>
            </a:xfrm>
          </p:grpSpPr>
          <p:sp>
            <p:nvSpPr>
              <p:cNvPr id="125" name=""/>
              <p:cNvSpPr/>
              <p:nvPr/>
            </p:nvSpPr>
            <p:spPr>
              <a:xfrm>
                <a:off x="4806360" y="6289560"/>
                <a:ext cx="527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11040" y="5933880"/>
                <a:ext cx="3765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88000" y="6352920"/>
                <a:ext cx="376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699240" y="5943600"/>
              <a:ext cx="547560" cy="778320"/>
              <a:chOff x="6699240" y="5943600"/>
              <a:chExt cx="547560" cy="778320"/>
            </a:xfrm>
          </p:grpSpPr>
          <p:sp>
            <p:nvSpPr>
              <p:cNvPr id="129" name=""/>
              <p:cNvSpPr/>
              <p:nvPr/>
            </p:nvSpPr>
            <p:spPr>
              <a:xfrm>
                <a:off x="6717600" y="6298920"/>
                <a:ext cx="529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722640" y="5943600"/>
                <a:ext cx="3776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99240" y="6362280"/>
                <a:ext cx="37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提炼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260360" y="2276640"/>
            <a:ext cx="49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怎样计算呢？请你试一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320840" y="4538520"/>
            <a:ext cx="14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2233440" y="453852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.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0.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.5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1332000" y="393372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研讨问题：你是怎样想的？（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转成分数进行计算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347840" y="2943360"/>
            <a:ext cx="4006800" cy="783360"/>
            <a:chOff x="1347840" y="2943360"/>
            <a:chExt cx="4006800" cy="783360"/>
          </a:xfrm>
        </p:grpSpPr>
        <p:sp>
          <p:nvSpPr>
            <p:cNvPr id="139" name="Text Box 6"/>
            <p:cNvSpPr/>
            <p:nvPr/>
          </p:nvSpPr>
          <p:spPr>
            <a:xfrm>
              <a:off x="1347840" y="316260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265480" y="2943360"/>
              <a:ext cx="3089160" cy="783360"/>
              <a:chOff x="2265480" y="2943360"/>
              <a:chExt cx="3089160" cy="783360"/>
            </a:xfrm>
          </p:grpSpPr>
          <p:grpSp>
            <p:nvGrpSpPr>
              <p:cNvPr id="141" name=""/>
              <p:cNvGrpSpPr/>
              <p:nvPr/>
            </p:nvGrpSpPr>
            <p:grpSpPr>
              <a:xfrm>
                <a:off x="2265480" y="2943360"/>
                <a:ext cx="2117880" cy="783360"/>
                <a:chOff x="2265480" y="2943360"/>
                <a:chExt cx="2117880" cy="7833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2265480" y="329904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291040" y="2943360"/>
                  <a:ext cx="4824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336760" y="33624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5" name=""/>
                <p:cNvGrpSpPr/>
                <p:nvPr/>
              </p:nvGrpSpPr>
              <p:grpSpPr>
                <a:xfrm>
                  <a:off x="3144960" y="2943360"/>
                  <a:ext cx="533520" cy="778680"/>
                  <a:chOff x="3144960" y="2943360"/>
                  <a:chExt cx="533520" cy="7786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3173400" y="3299040"/>
                    <a:ext cx="505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3157560" y="294336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3144960" y="336240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9" name=""/>
                <p:cNvSpPr/>
                <p:nvPr/>
              </p:nvSpPr>
              <p:spPr>
                <a:xfrm>
                  <a:off x="2678400" y="316404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500640" y="314964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878280" y="3303720"/>
                  <a:ext cx="5050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4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84760" y="2948040"/>
                  <a:ext cx="4824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930840" y="33670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4202280" y="3159360"/>
                <a:ext cx="115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m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1341360" y="4884840"/>
            <a:ext cx="6840360" cy="778320"/>
            <a:chOff x="1341360" y="4884840"/>
            <a:chExt cx="6840360" cy="778320"/>
          </a:xfrm>
        </p:grpSpPr>
        <p:sp>
          <p:nvSpPr>
            <p:cNvPr id="156" name="Text Box 19"/>
            <p:cNvSpPr/>
            <p:nvPr/>
          </p:nvSpPr>
          <p:spPr>
            <a:xfrm>
              <a:off x="1341360" y="5086080"/>
              <a:ext cx="68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研讨问题：你是怎样想的？（把       转成小数进行计算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095800" y="4884840"/>
              <a:ext cx="522360" cy="778320"/>
              <a:chOff x="5095800" y="4884840"/>
              <a:chExt cx="522360" cy="778320"/>
            </a:xfrm>
          </p:grpSpPr>
          <p:sp>
            <p:nvSpPr>
              <p:cNvPr id="158" name=""/>
              <p:cNvSpPr/>
              <p:nvPr/>
            </p:nvSpPr>
            <p:spPr>
              <a:xfrm>
                <a:off x="5113440" y="52401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18120" y="48848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95800" y="53035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"/>
          <p:cNvSpPr/>
          <p:nvPr/>
        </p:nvSpPr>
        <p:spPr>
          <a:xfrm>
            <a:off x="663840" y="611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提炼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260360" y="2205000"/>
            <a:ext cx="590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03440" y="3032280"/>
            <a:ext cx="49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计算呢？请你试一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934920" y="4398840"/>
            <a:ext cx="14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1865160" y="438948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4×0.7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m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958680" y="502596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3433680" y="501804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观察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种做法，你喜欢哪一种？说说你的想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704880" y="2205000"/>
            <a:ext cx="818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要求“松鼠乐乐的尾巴有多长”怎样列式？你是怎样想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求“松鼠乐乐的尾巴有多长”列式：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2.4</a:t>
            </a:r>
            <a:r>
              <a:rPr b="1" lang="zh-CN" sz="20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145200" y="2340000"/>
            <a:ext cx="522360" cy="778680"/>
            <a:chOff x="6145200" y="2340000"/>
            <a:chExt cx="522360" cy="778680"/>
          </a:xfrm>
        </p:grpSpPr>
        <p:sp>
          <p:nvSpPr>
            <p:cNvPr id="172" name=""/>
            <p:cNvSpPr/>
            <p:nvPr/>
          </p:nvSpPr>
          <p:spPr>
            <a:xfrm>
              <a:off x="6162840" y="26956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67520" y="23400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45200" y="2759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6"/>
          <p:cNvSpPr/>
          <p:nvPr/>
        </p:nvSpPr>
        <p:spPr>
          <a:xfrm>
            <a:off x="938160" y="36212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855800" y="3409920"/>
            <a:ext cx="3089160" cy="783360"/>
            <a:chOff x="1855800" y="3409920"/>
            <a:chExt cx="3089160" cy="783360"/>
          </a:xfrm>
        </p:grpSpPr>
        <p:sp>
          <p:nvSpPr>
            <p:cNvPr id="177" name=""/>
            <p:cNvSpPr/>
            <p:nvPr/>
          </p:nvSpPr>
          <p:spPr>
            <a:xfrm>
              <a:off x="1855800" y="37656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81360" y="3409920"/>
              <a:ext cx="482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27080" y="38289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2735280" y="3409920"/>
              <a:ext cx="533520" cy="778680"/>
              <a:chOff x="2735280" y="3409920"/>
              <a:chExt cx="533520" cy="778680"/>
            </a:xfrm>
          </p:grpSpPr>
          <p:sp>
            <p:nvSpPr>
              <p:cNvPr id="181" name=""/>
              <p:cNvSpPr/>
              <p:nvPr/>
            </p:nvSpPr>
            <p:spPr>
              <a:xfrm>
                <a:off x="2763720" y="376560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747880" y="34099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735280" y="38289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2268720" y="36306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90960" y="36162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37702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13240" y="3414600"/>
              <a:ext cx="482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2080" y="38336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92600" y="362592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m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688760" y="4819680"/>
            <a:ext cx="1555560" cy="1855800"/>
            <a:chOff x="1688760" y="4819680"/>
            <a:chExt cx="1555560" cy="1855800"/>
          </a:xfrm>
        </p:grpSpPr>
        <p:grpSp>
          <p:nvGrpSpPr>
            <p:cNvPr id="191" name=""/>
            <p:cNvGrpSpPr/>
            <p:nvPr/>
          </p:nvGrpSpPr>
          <p:grpSpPr>
            <a:xfrm>
              <a:off x="1688760" y="4819680"/>
              <a:ext cx="1546200" cy="1628640"/>
              <a:chOff x="1688760" y="4819680"/>
              <a:chExt cx="1546200" cy="1628640"/>
            </a:xfrm>
          </p:grpSpPr>
          <p:sp>
            <p:nvSpPr>
              <p:cNvPr id="192" name="Text Box 16"/>
              <p:cNvSpPr/>
              <p:nvPr/>
            </p:nvSpPr>
            <p:spPr>
              <a:xfrm>
                <a:off x="1966680" y="504180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.4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2711160" y="4819680"/>
                <a:ext cx="522360" cy="778680"/>
                <a:chOff x="2711160" y="4819680"/>
                <a:chExt cx="522360" cy="7786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2728800" y="517536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733480" y="48196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711160" y="52387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1688760" y="5686560"/>
                <a:ext cx="122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.4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2712600" y="5456160"/>
                <a:ext cx="522360" cy="778680"/>
                <a:chOff x="2712600" y="5456160"/>
                <a:chExt cx="522360" cy="7786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730240" y="581184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734920" y="54561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712600" y="58752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2030040" y="5773680"/>
                <a:ext cx="432000" cy="21600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42920" y="5423040"/>
                <a:ext cx="79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.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725560" y="608004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734920" y="5996160"/>
                <a:ext cx="287280" cy="14436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798920" y="6307200"/>
              <a:ext cx="144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dm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663840" y="611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引入情境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，提炼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774720" y="2095560"/>
            <a:ext cx="69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观察上面两道题的计算方法与整数乘法有着怎样的联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计算小数乘分数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12800" y="3575160"/>
            <a:ext cx="71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结：小数乘分数与整数乘分数的计算方法相同，能约分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先约分，使计算更简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3840" y="611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巩固练习 提高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1144440" y="1655640"/>
            <a:ext cx="17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359000" y="2349360"/>
            <a:ext cx="1352520" cy="778680"/>
            <a:chOff x="1359000" y="2349360"/>
            <a:chExt cx="1352520" cy="778680"/>
          </a:xfrm>
        </p:grpSpPr>
        <p:sp>
          <p:nvSpPr>
            <p:cNvPr id="216" name="Text Box 8"/>
            <p:cNvSpPr/>
            <p:nvPr/>
          </p:nvSpPr>
          <p:spPr>
            <a:xfrm>
              <a:off x="1359000" y="25858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.2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178000" y="2349360"/>
              <a:ext cx="533520" cy="778680"/>
              <a:chOff x="2178000" y="2349360"/>
              <a:chExt cx="533520" cy="778680"/>
            </a:xfrm>
          </p:grpSpPr>
          <p:sp>
            <p:nvSpPr>
              <p:cNvPr id="218" name=""/>
              <p:cNvSpPr/>
              <p:nvPr/>
            </p:nvSpPr>
            <p:spPr>
              <a:xfrm>
                <a:off x="2206440" y="270504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190600" y="23493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178000" y="2768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3848040" y="2349360"/>
            <a:ext cx="1352520" cy="778680"/>
            <a:chOff x="3848040" y="2349360"/>
            <a:chExt cx="1352520" cy="778680"/>
          </a:xfrm>
        </p:grpSpPr>
        <p:sp>
          <p:nvSpPr>
            <p:cNvPr id="222" name="Text Box 8"/>
            <p:cNvSpPr/>
            <p:nvPr/>
          </p:nvSpPr>
          <p:spPr>
            <a:xfrm>
              <a:off x="3848040" y="25858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5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667040" y="2349360"/>
              <a:ext cx="533520" cy="778680"/>
              <a:chOff x="4667040" y="2349360"/>
              <a:chExt cx="533520" cy="778680"/>
            </a:xfrm>
          </p:grpSpPr>
          <p:sp>
            <p:nvSpPr>
              <p:cNvPr id="224" name=""/>
              <p:cNvSpPr/>
              <p:nvPr/>
            </p:nvSpPr>
            <p:spPr>
              <a:xfrm>
                <a:off x="4695480" y="270504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679640" y="23493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67040" y="2768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"/>
          <p:cNvGrpSpPr/>
          <p:nvPr/>
        </p:nvGrpSpPr>
        <p:grpSpPr>
          <a:xfrm>
            <a:off x="6248520" y="2311560"/>
            <a:ext cx="1352520" cy="778320"/>
            <a:chOff x="6248520" y="2311560"/>
            <a:chExt cx="1352520" cy="778320"/>
          </a:xfrm>
        </p:grpSpPr>
        <p:sp>
          <p:nvSpPr>
            <p:cNvPr id="228" name="Text Box 8"/>
            <p:cNvSpPr/>
            <p:nvPr/>
          </p:nvSpPr>
          <p:spPr>
            <a:xfrm>
              <a:off x="6248520" y="254772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.4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7067520" y="2311560"/>
              <a:ext cx="533520" cy="778320"/>
              <a:chOff x="7067520" y="2311560"/>
              <a:chExt cx="533520" cy="778320"/>
            </a:xfrm>
          </p:grpSpPr>
          <p:sp>
            <p:nvSpPr>
              <p:cNvPr id="230" name=""/>
              <p:cNvSpPr/>
              <p:nvPr/>
            </p:nvSpPr>
            <p:spPr>
              <a:xfrm>
                <a:off x="7095960" y="266688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080120" y="23115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067520" y="27302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1436760" y="3716280"/>
            <a:ext cx="1352520" cy="778680"/>
            <a:chOff x="1436760" y="3716280"/>
            <a:chExt cx="1352520" cy="778680"/>
          </a:xfrm>
        </p:grpSpPr>
        <p:sp>
          <p:nvSpPr>
            <p:cNvPr id="234" name="Text Box 8"/>
            <p:cNvSpPr/>
            <p:nvPr/>
          </p:nvSpPr>
          <p:spPr>
            <a:xfrm>
              <a:off x="1436760" y="3952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4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2255760" y="3716280"/>
              <a:ext cx="533520" cy="778680"/>
              <a:chOff x="2255760" y="3716280"/>
              <a:chExt cx="533520" cy="778680"/>
            </a:xfrm>
          </p:grpSpPr>
          <p:sp>
            <p:nvSpPr>
              <p:cNvPr id="236" name=""/>
              <p:cNvSpPr/>
              <p:nvPr/>
            </p:nvSpPr>
            <p:spPr>
              <a:xfrm>
                <a:off x="2284200" y="407196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68360" y="37162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255760" y="4135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9" name=""/>
          <p:cNvGrpSpPr/>
          <p:nvPr/>
        </p:nvGrpSpPr>
        <p:grpSpPr>
          <a:xfrm>
            <a:off x="3882960" y="3716280"/>
            <a:ext cx="1352520" cy="778680"/>
            <a:chOff x="3882960" y="3716280"/>
            <a:chExt cx="1352520" cy="778680"/>
          </a:xfrm>
        </p:grpSpPr>
        <p:sp>
          <p:nvSpPr>
            <p:cNvPr id="240" name="Text Box 8"/>
            <p:cNvSpPr/>
            <p:nvPr/>
          </p:nvSpPr>
          <p:spPr>
            <a:xfrm>
              <a:off x="3882960" y="395280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0.8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4701960" y="3716280"/>
              <a:ext cx="533520" cy="778680"/>
              <a:chOff x="4701960" y="3716280"/>
              <a:chExt cx="533520" cy="778680"/>
            </a:xfrm>
          </p:grpSpPr>
          <p:sp>
            <p:nvSpPr>
              <p:cNvPr id="242" name=""/>
              <p:cNvSpPr/>
              <p:nvPr/>
            </p:nvSpPr>
            <p:spPr>
              <a:xfrm>
                <a:off x="4730400" y="407196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14560" y="37162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01960" y="4135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6365880" y="3695760"/>
            <a:ext cx="1365120" cy="778680"/>
            <a:chOff x="6365880" y="3695760"/>
            <a:chExt cx="1365120" cy="778680"/>
          </a:xfrm>
        </p:grpSpPr>
        <p:sp>
          <p:nvSpPr>
            <p:cNvPr id="246" name="Text Box 8"/>
            <p:cNvSpPr/>
            <p:nvPr/>
          </p:nvSpPr>
          <p:spPr>
            <a:xfrm>
              <a:off x="6723000" y="391176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 3.2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6365880" y="3695760"/>
              <a:ext cx="533520" cy="778680"/>
              <a:chOff x="6365880" y="3695760"/>
              <a:chExt cx="533520" cy="778680"/>
            </a:xfrm>
          </p:grpSpPr>
          <p:sp>
            <p:nvSpPr>
              <p:cNvPr id="248" name=""/>
              <p:cNvSpPr/>
              <p:nvPr/>
            </p:nvSpPr>
            <p:spPr>
              <a:xfrm>
                <a:off x="6394320" y="405144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78480" y="36957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365880" y="41148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2544840" y="3933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511360" y="2338560"/>
            <a:ext cx="1093680" cy="768960"/>
            <a:chOff x="2511360" y="2338560"/>
            <a:chExt cx="1093680" cy="768960"/>
          </a:xfrm>
        </p:grpSpPr>
        <p:sp>
          <p:nvSpPr>
            <p:cNvPr id="253" name=""/>
            <p:cNvSpPr/>
            <p:nvPr/>
          </p:nvSpPr>
          <p:spPr>
            <a:xfrm>
              <a:off x="2511360" y="25448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932200" y="26845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25720" y="233856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44800" y="276084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962600" y="2349360"/>
            <a:ext cx="1093680" cy="768960"/>
            <a:chOff x="4962600" y="2349360"/>
            <a:chExt cx="1093680" cy="768960"/>
          </a:xfrm>
        </p:grpSpPr>
        <p:sp>
          <p:nvSpPr>
            <p:cNvPr id="258" name=""/>
            <p:cNvSpPr/>
            <p:nvPr/>
          </p:nvSpPr>
          <p:spPr>
            <a:xfrm>
              <a:off x="4962600" y="2555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83440" y="26953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76960" y="234936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96040" y="277164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346880" y="2305080"/>
            <a:ext cx="1093680" cy="768960"/>
            <a:chOff x="7346880" y="2305080"/>
            <a:chExt cx="1093680" cy="768960"/>
          </a:xfrm>
        </p:grpSpPr>
        <p:sp>
          <p:nvSpPr>
            <p:cNvPr id="263" name=""/>
            <p:cNvSpPr/>
            <p:nvPr/>
          </p:nvSpPr>
          <p:spPr>
            <a:xfrm>
              <a:off x="7346880" y="2511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67720" y="265104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61240" y="230508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80320" y="272736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981680" y="3705120"/>
            <a:ext cx="1093680" cy="768960"/>
            <a:chOff x="4981680" y="3705120"/>
            <a:chExt cx="1093680" cy="768960"/>
          </a:xfrm>
        </p:grpSpPr>
        <p:sp>
          <p:nvSpPr>
            <p:cNvPr id="268" name=""/>
            <p:cNvSpPr/>
            <p:nvPr/>
          </p:nvSpPr>
          <p:spPr>
            <a:xfrm>
              <a:off x="4981680" y="3911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02520" y="40510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96040" y="370512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5120" y="412740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7402680" y="3700440"/>
            <a:ext cx="1093680" cy="768960"/>
            <a:chOff x="7402680" y="3700440"/>
            <a:chExt cx="1093680" cy="768960"/>
          </a:xfrm>
        </p:grpSpPr>
        <p:sp>
          <p:nvSpPr>
            <p:cNvPr id="273" name=""/>
            <p:cNvSpPr/>
            <p:nvPr/>
          </p:nvSpPr>
          <p:spPr>
            <a:xfrm>
              <a:off x="7402680" y="39067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23520" y="40464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17040" y="370044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36120" y="412272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63840" y="611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四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1104840" y="236232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二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63840" y="611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3:31:4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